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wmf" ContentType="image/x-wmf"/>
  <Override PartName="/ppt/media/image22.png" ContentType="image/png"/>
  <Override PartName="/ppt/media/image13.jpeg" ContentType="image/jpeg"/>
  <Override PartName="/ppt/media/image23.png" ContentType="image/png"/>
  <Override PartName="/ppt/media/image27.jpeg" ContentType="image/jpeg"/>
  <Override PartName="/ppt/media/image10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png" ContentType="image/png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4FC-80DE-47BE-8421-A53C4CC6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EE3-3388-40B9-8670-E499DB5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D40-4F74-4ABA-B88B-665398E3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113-6EBC-47BA-A81F-01A071E4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D26-B2C9-4C89-B727-B6620052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12B-F68E-4D5C-9848-311730B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294-6227-4C1B-A18D-85BA97E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6E3-EA2C-4F3E-A82B-457CB2AB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1B3-0975-4899-BA4D-2748413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B26-F2AD-4BB5-B04C-6655C51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B84-A7C2-4210-824E-B2401C5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D2E-963F-4565-AB0A-840F36E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0C09-40E5-475B-9B84-044D217B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0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81764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LLA 9: Metabolismo de Aminoácidos. Digestión y absorción de Proteínas. Catabolismo de aminoácidos. Transaminación. Desaminación oxidativa y no oxidativa.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3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4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53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6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7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385" name="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2637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426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4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3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443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4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451" name="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5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466" name="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 rot="10800000">
              <a:off x="3108240" y="1772640"/>
              <a:ext cx="573480" cy="28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" y="8992"/>
                  </a:moveTo>
                  <a:arcTo wR="10800" hR="10800" stAng="-10221892" swAng="102218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" y="8992"/>
                  </a:moveTo>
                  <a:arcTo wR="10800" hR="10800" stAng="-10221892" swAng="1022189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n-US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n-US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285920" y="1485360"/>
            <a:ext cx="1818000" cy="1080360"/>
            <a:chOff x="1285920" y="1485360"/>
            <a:chExt cx="1818000" cy="1080360"/>
          </a:xfrm>
        </p:grpSpPr>
        <p:sp>
          <p:nvSpPr>
            <p:cNvPr id="473" name="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 rot="18754800">
              <a:off x="1874160" y="1602720"/>
              <a:ext cx="57420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2" y="8992"/>
                  </a:moveTo>
                  <a:arcTo wR="10800" hR="10800" stAng="-10221892" swAng="102218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2" y="8992"/>
                  </a:moveTo>
                  <a:arcTo wR="10800" hR="10800" stAng="-10221892" swAng="1022189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3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8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492" name=""/>
            <p:cNvGrpSpPr/>
            <p:nvPr/>
          </p:nvGrpSpPr>
          <p:grpSpPr>
            <a:xfrm>
              <a:off x="1547640" y="907920"/>
              <a:ext cx="6146640" cy="5384520"/>
              <a:chOff x="1547640" y="907920"/>
              <a:chExt cx="6146640" cy="5384520"/>
            </a:xfrm>
          </p:grpSpPr>
          <p:pic>
            <p:nvPicPr>
              <p:cNvPr id="4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90792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2943000" y="14238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62280" y="50097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3920" y="28364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727000" y="61624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51" name="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08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1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2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36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4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52" name="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563" name="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565" name="" descr=""/>
                <p:cNvPicPr/>
                <p:nvPr/>
              </p:nvPicPr>
              <p:blipFill>
                <a:blip r:embed="rId1"/>
                <a:srcRect l="35745" t="4789" r="0" b="12549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6" name="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7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descarboxil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piridoxalfosfato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(PLP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8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-aminobutirico (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GAB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99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5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0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619" name="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996000" y="4005360"/>
            <a:ext cx="1829160" cy="1009080"/>
            <a:chOff x="3996000" y="4005360"/>
            <a:chExt cx="1829160" cy="1009080"/>
          </a:xfrm>
        </p:grpSpPr>
        <p:sp>
          <p:nvSpPr>
            <p:cNvPr id="622" name=""/>
            <p:cNvSpPr/>
            <p:nvPr/>
          </p:nvSpPr>
          <p:spPr>
            <a:xfrm>
              <a:off x="3996000" y="4005360"/>
              <a:ext cx="1440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625" name="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628" name="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631" name="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634" name="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637" name="" descr=""/>
            <p:cNvPicPr/>
            <p:nvPr/>
          </p:nvPicPr>
          <p:blipFill>
            <a:blip r:embed="rId8"/>
            <a:srcRect l="0" t="0" r="0" b="18771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640" name="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6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" descr=""/>
              <p:cNvPicPr/>
              <p:nvPr/>
            </p:nvPicPr>
            <p:blipFill>
              <a:blip r:embed="rId10"/>
              <a:srcRect l="72719" t="-4332" r="-3855" b="42985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646" name="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647" name="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5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his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osee acción vasodilatadora, disminuye la presión sanguínea, colabora en la constricción de los bronquiolos, estimula la producción de HCl y estimula la pepsina en e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mago, se libera bruscamente en respuesta  al ingreso de sustancias alérgenas en los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iramina y trip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on sustancias vasoconstrictor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cido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-aminob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rico (GABA)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s un compuesto funcionalmente muy importante, ya que es un intermediario químico  regulador de la actividad neuronal, actuando como inhibidor o depresor de la transmisión del impulso nerv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catecolami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Dopamina, Noradrenalina y Adrenal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producen en el sistema nervioso y en la medula adrenal. Son vasoconstrictores en algunos tejidos y vasodilatadores en otros, aumentan la frecuencia cardíaca, son relajantes del músculo bronquial, estimulan la glucógenolisis en músculo y la lipólisis en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1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7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83" name="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86" name="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89" name="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94" name="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95" name="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n-US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98" name="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105" name="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pas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ó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aminoácidos en las plantas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8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8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976760" y="73980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grpSp>
          <p:nvGrpSpPr>
            <p:cNvPr id="691" name=""/>
            <p:cNvGrpSpPr/>
            <p:nvPr/>
          </p:nvGrpSpPr>
          <p:grpSpPr>
            <a:xfrm>
              <a:off x="611280" y="1413000"/>
              <a:ext cx="8208360" cy="5184360"/>
              <a:chOff x="611280" y="1413000"/>
              <a:chExt cx="8208360" cy="5184360"/>
            </a:xfrm>
          </p:grpSpPr>
          <p:pic>
            <p:nvPicPr>
              <p:cNvPr id="6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413000"/>
                <a:ext cx="8208360" cy="51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7208640" y="4569840"/>
                <a:ext cx="37548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NH</a:t>
                </a:r>
                <a:r>
                  <a:rPr b="1" lang="en-US" sz="1400" spc="-1" strike="noStrike" baseline="-25000">
                    <a:solidFill>
                      <a:srgbClr val="0033cc"/>
                    </a:solidFill>
                    <a:latin typeface="Arial"/>
                  </a:rPr>
                  <a:t>4</a:t>
                </a:r>
                <a:r>
                  <a:rPr b="1" lang="en-US" sz="1400" spc="-1" strike="noStrike" baseline="30000">
                    <a:solidFill>
                      <a:srgbClr val="0033cc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017120" y="4270320"/>
              <a:ext cx="10296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Nitroge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38160" y="3573360"/>
              <a:ext cx="81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7093080" y="4437000"/>
            <a:ext cx="647640" cy="57636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9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03920" y="51912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4720" y="2133720"/>
            <a:ext cx="8638200" cy="4609800"/>
            <a:chOff x="324720" y="2133720"/>
            <a:chExt cx="8638200" cy="4609800"/>
          </a:xfrm>
        </p:grpSpPr>
        <p:sp>
          <p:nvSpPr>
            <p:cNvPr id="708" name=""/>
            <p:cNvSpPr/>
            <p:nvPr/>
          </p:nvSpPr>
          <p:spPr>
            <a:xfrm>
              <a:off x="2062440" y="254808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5316840" y="2529000"/>
              <a:ext cx="1911240" cy="510120"/>
              <a:chOff x="5316840" y="2529000"/>
              <a:chExt cx="1911240" cy="510120"/>
            </a:xfrm>
          </p:grpSpPr>
          <p:sp>
            <p:nvSpPr>
              <p:cNvPr id="710" name=""/>
              <p:cNvSpPr/>
              <p:nvPr/>
            </p:nvSpPr>
            <p:spPr>
              <a:xfrm>
                <a:off x="5316840" y="2529000"/>
                <a:ext cx="79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27640" y="2529000"/>
                <a:ext cx="1000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 H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644920" y="2449440"/>
              <a:ext cx="2580840" cy="1159920"/>
              <a:chOff x="2644920" y="2449440"/>
              <a:chExt cx="2580840" cy="115992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3070800" y="2889360"/>
                <a:ext cx="2089080" cy="720000"/>
                <a:chOff x="3070800" y="2889360"/>
                <a:chExt cx="2089080" cy="720000"/>
              </a:xfrm>
            </p:grpSpPr>
            <p:sp>
              <p:nvSpPr>
                <p:cNvPr id="714" name=""/>
                <p:cNvSpPr/>
                <p:nvPr/>
              </p:nvSpPr>
              <p:spPr>
                <a:xfrm flipH="1" rot="5400000">
                  <a:off x="3716280" y="2528280"/>
                  <a:ext cx="720000" cy="144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378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378503"/>
                    </a:path>
                  </a:pathLst>
                </a:custGeom>
                <a:noFill/>
                <a:ln w="44280">
                  <a:solidFill>
                    <a:srgbClr val="0000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70800" y="2889360"/>
                  <a:ext cx="2089080" cy="0"/>
                </a:xfrm>
                <a:prstGeom prst="line">
                  <a:avLst/>
                </a:prstGeom>
                <a:ln w="4752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2644920" y="3176640"/>
                <a:ext cx="1479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ADH + 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404960" y="317664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074400" y="24494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Nitrato reduct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08240" y="477216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02400" y="4772160"/>
              <a:ext cx="201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3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 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274920" y="4575240"/>
              <a:ext cx="2309760" cy="1080720"/>
              <a:chOff x="3274920" y="4575240"/>
              <a:chExt cx="2309760" cy="1080720"/>
            </a:xfrm>
          </p:grpSpPr>
          <p:sp>
            <p:nvSpPr>
              <p:cNvPr id="722" name=""/>
              <p:cNvSpPr/>
              <p:nvPr/>
            </p:nvSpPr>
            <p:spPr>
              <a:xfrm>
                <a:off x="3274920" y="5013360"/>
                <a:ext cx="2309760" cy="144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77080" y="4575240"/>
                <a:ext cx="1995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Nitrito reduct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72280" y="5013360"/>
                <a:ext cx="148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Ferredox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5580000" y="4772160"/>
              <a:ext cx="338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 + 1.5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5195880" y="5380200"/>
              <a:ext cx="1895400" cy="1363320"/>
              <a:chOff x="5195880" y="5380200"/>
              <a:chExt cx="1895400" cy="1363320"/>
            </a:xfrm>
          </p:grpSpPr>
          <p:sp>
            <p:nvSpPr>
              <p:cNvPr id="727" name=""/>
              <p:cNvSpPr/>
              <p:nvPr/>
            </p:nvSpPr>
            <p:spPr>
              <a:xfrm>
                <a:off x="6084720" y="5380200"/>
                <a:ext cx="0" cy="649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95880" y="6100920"/>
                <a:ext cx="1895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AMINOACID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PROTEIN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324720" y="21337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4200" y="5950080"/>
              <a:ext cx="46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loroplastos o Protoplastid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1042920" y="2349360"/>
              <a:ext cx="5041800" cy="2374920"/>
              <a:chOff x="1042920" y="2349360"/>
              <a:chExt cx="5041800" cy="2374920"/>
            </a:xfrm>
          </p:grpSpPr>
          <p:sp>
            <p:nvSpPr>
              <p:cNvPr id="732" name=""/>
              <p:cNvSpPr/>
              <p:nvPr/>
            </p:nvSpPr>
            <p:spPr>
              <a:xfrm>
                <a:off x="5292720" y="2349360"/>
                <a:ext cx="792000" cy="863640"/>
              </a:xfrm>
              <a:prstGeom prst="ellipse">
                <a:avLst/>
              </a:prstGeom>
              <a:noFill/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1042920" y="3213000"/>
                <a:ext cx="4681440" cy="151128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735" name="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3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24000" y="544680"/>
            <a:ext cx="8351640" cy="605304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7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3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755640" y="3933720"/>
            <a:ext cx="503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641680" y="3645000"/>
            <a:ext cx="116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Glut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511600" y="3803760"/>
            <a:ext cx="10004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Gluta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08960" y="4581360"/>
            <a:ext cx="1645200" cy="9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Ferredoxina 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(clor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NADH o NAD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(prot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665800" y="2076480"/>
            <a:ext cx="110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spara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164360" y="2747880"/>
            <a:ext cx="2017800" cy="1041120"/>
            <a:chOff x="7164360" y="2747880"/>
            <a:chExt cx="2017800" cy="1041120"/>
          </a:xfrm>
        </p:grpSpPr>
        <p:sp>
          <p:nvSpPr>
            <p:cNvPr id="760" name=""/>
            <p:cNvSpPr/>
            <p:nvPr/>
          </p:nvSpPr>
          <p:spPr>
            <a:xfrm flipV="1">
              <a:off x="7164360" y="3357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59640" y="2747880"/>
              <a:ext cx="1622520" cy="824040"/>
            </a:xfrm>
            <a:prstGeom prst="rect">
              <a:avLst/>
            </a:prstGeom>
            <a:solidFill>
              <a:srgbClr val="ffcc00">
                <a:alpha val="2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Proteí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Clorofi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cs. Nucle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960080" y="1413000"/>
            <a:ext cx="168948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Aspar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amino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435640" y="620640"/>
            <a:ext cx="15796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EP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067280" y="3645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03280" y="981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08200" y="609300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Glutamina y Asparagina son las amidas vegetales, importantes para acumular nitrógeno, principalmente en órganos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60560" y="1916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L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324000" y="1352160"/>
            <a:ext cx="8496000" cy="4812840"/>
            <a:chOff x="324000" y="1352160"/>
            <a:chExt cx="8496000" cy="4812840"/>
          </a:xfrm>
        </p:grpSpPr>
        <p:pic>
          <p:nvPicPr>
            <p:cNvPr id="769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324000" y="1351800"/>
              <a:ext cx="8496000" cy="48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flipH="1">
              <a:off x="1692360" y="5009040"/>
              <a:ext cx="7128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72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8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445320" y="56664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Ciclo fotorrespiratorio del Nitr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Interacción del metabolismo de CH y de AAs en una h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00000" y="4221000"/>
            <a:ext cx="1943280" cy="1729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979640" y="5805360"/>
            <a:ext cx="2123640" cy="433440"/>
            <a:chOff x="1979640" y="5805360"/>
            <a:chExt cx="2123640" cy="433440"/>
          </a:xfrm>
        </p:grpSpPr>
        <p:sp>
          <p:nvSpPr>
            <p:cNvPr id="782" name=""/>
            <p:cNvSpPr/>
            <p:nvPr/>
          </p:nvSpPr>
          <p:spPr>
            <a:xfrm flipH="1" flipV="1">
              <a:off x="1979640" y="5805360"/>
              <a:ext cx="1225440" cy="216000"/>
            </a:xfrm>
            <a:prstGeom prst="line">
              <a:avLst/>
            </a:prstGeom>
            <a:ln w="414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86360" y="5870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Xi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681480" y="3573360"/>
            <a:ext cx="8312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Fosf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4005360"/>
            <a:ext cx="1582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Glicolat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282200" y="3284640"/>
            <a:ext cx="7336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Cata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17440" y="1816200"/>
            <a:ext cx="1125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loropla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51640" y="1671480"/>
            <a:ext cx="1149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eroxis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18520" y="2637000"/>
            <a:ext cx="1148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itoc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03000" y="5084640"/>
            <a:ext cx="2628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5- Glu-Gliox.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6- Ser-Gliox.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7- Gli descarb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8- Ser HO-metil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9- HOpiruvat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5640" y="2133720"/>
            <a:ext cx="40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M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741320" y="2924280"/>
            <a:ext cx="2383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G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9640" y="2781360"/>
            <a:ext cx="432000" cy="287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971640" y="4221000"/>
            <a:ext cx="1944720" cy="2016360"/>
            <a:chOff x="971640" y="4221000"/>
            <a:chExt cx="1944720" cy="2016360"/>
          </a:xfrm>
        </p:grpSpPr>
        <p:sp>
          <p:nvSpPr>
            <p:cNvPr id="795" name=""/>
            <p:cNvSpPr/>
            <p:nvPr/>
          </p:nvSpPr>
          <p:spPr>
            <a:xfrm>
              <a:off x="971640" y="4365720"/>
              <a:ext cx="1944720" cy="1871640"/>
            </a:xfrm>
            <a:prstGeom prst="line">
              <a:avLst/>
            </a:prstGeom>
            <a:ln w="9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042920" y="4221000"/>
              <a:ext cx="1657440" cy="1800360"/>
            </a:xfrm>
            <a:prstGeom prst="line">
              <a:avLst/>
            </a:prstGeom>
            <a:ln w="98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342200" y="3645000"/>
            <a:ext cx="672120" cy="433440"/>
            <a:chOff x="7342200" y="3645000"/>
            <a:chExt cx="672120" cy="433440"/>
          </a:xfrm>
        </p:grpSpPr>
        <p:sp>
          <p:nvSpPr>
            <p:cNvPr id="798" name=""/>
            <p:cNvSpPr/>
            <p:nvPr/>
          </p:nvSpPr>
          <p:spPr>
            <a:xfrm>
              <a:off x="7406640" y="3689280"/>
              <a:ext cx="6076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6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342200" y="3645000"/>
              <a:ext cx="0" cy="433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2000" fill="hold"/>
                                        <p:tgtEl>
                                          <p:spTgt spid="7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805" name="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1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2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0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o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119" name="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123" name="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03640" y="2066760"/>
            <a:ext cx="2624760" cy="1720800"/>
            <a:chOff x="3203640" y="2066760"/>
            <a:chExt cx="2624760" cy="1720800"/>
          </a:xfrm>
        </p:grpSpPr>
        <p:sp>
          <p:nvSpPr>
            <p:cNvPr id="141" name="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03640" y="2781360"/>
              <a:ext cx="86328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5012000">
              <a:off x="4776480" y="2684160"/>
              <a:ext cx="86364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150" name="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30560" y="4365720"/>
            <a:ext cx="2624400" cy="1719720"/>
            <a:chOff x="3130560" y="4365720"/>
            <a:chExt cx="2624400" cy="1719720"/>
          </a:xfrm>
        </p:grpSpPr>
        <p:sp>
          <p:nvSpPr>
            <p:cNvPr id="154" name="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30560" y="5079960"/>
              <a:ext cx="86328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5012000">
              <a:off x="4703400" y="4982040"/>
              <a:ext cx="86292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0" y="144"/>
                  </a:moveTo>
                  <a:arcTo wR="10800" hR="10800" stAng="-4837176" swAng="48371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0" y="144"/>
                  </a:moveTo>
                  <a:arcTo wR="10800" hR="10800" stAng="-4837176" swAng="4837176"/>
                </a:path>
              </a:pathLst>
            </a:custGeom>
            <a:noFill/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n-U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162" name="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n-US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8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20800" y="5032440"/>
            <a:ext cx="2454480" cy="557280"/>
            <a:chOff x="820800" y="5032440"/>
            <a:chExt cx="2454480" cy="557280"/>
          </a:xfrm>
        </p:grpSpPr>
        <p:sp>
          <p:nvSpPr>
            <p:cNvPr id="202" name="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4080" y="5032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Arial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367080" y="5013360"/>
            <a:ext cx="3180960" cy="576360"/>
            <a:chOff x="3367080" y="5013360"/>
            <a:chExt cx="3180960" cy="576360"/>
          </a:xfrm>
        </p:grpSpPr>
        <p:sp>
          <p:nvSpPr>
            <p:cNvPr id="205" name="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3600" y="50133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599160" y="5013360"/>
            <a:ext cx="1570680" cy="576360"/>
            <a:chOff x="6599160" y="5013360"/>
            <a:chExt cx="1570680" cy="576360"/>
          </a:xfrm>
        </p:grpSpPr>
        <p:sp>
          <p:nvSpPr>
            <p:cNvPr id="209" name="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81080" y="5013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14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132000" y="3789360"/>
            <a:ext cx="3095640" cy="3068280"/>
            <a:chOff x="3132000" y="3789360"/>
            <a:chExt cx="3095640" cy="3068280"/>
          </a:xfrm>
        </p:grpSpPr>
        <p:sp>
          <p:nvSpPr>
            <p:cNvPr id="253" name=""/>
            <p:cNvSpPr/>
            <p:nvPr/>
          </p:nvSpPr>
          <p:spPr>
            <a:xfrm>
              <a:off x="4427640" y="378936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32000" y="493272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56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265" name="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67" name="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76360" y="321300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272" name="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75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2520" y="393228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ayoría de vertebrados acuátic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14880" y="414972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uchos vertebrados terrestres y tiburon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pájaros y repti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301" name="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304" name="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08" name="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4" name="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317" name="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715640" y="1700280"/>
            <a:ext cx="100980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1" y="6"/>
                </a:moveTo>
                <a:arcTo wR="10800" hR="10800" stAng="-5281938" swAng="5281938"/>
                <a:lnTo>
                  <a:pt x="10800" y="10800"/>
                </a:lnTo>
                <a:close/>
              </a:path>
              <a:path fill="none" w="21600" h="21600">
                <a:moveTo>
                  <a:pt x="11171" y="6"/>
                </a:moveTo>
                <a:arcTo wR="10800" hR="10800" stAng="-5281938" swAng="5281938"/>
              </a:path>
            </a:pathLst>
          </a:custGeom>
          <a:noFill/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90792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2:43:58Z</dcterms:created>
  <dc:creator>Colossus User</dc:creator>
  <dc:description/>
  <dc:language>en-US</dc:language>
  <cp:lastModifiedBy>Colossus User</cp:lastModifiedBy>
  <dcterms:modified xsi:type="dcterms:W3CDTF">2012-05-28T13:20:00Z</dcterms:modified>
  <cp:revision>25</cp:revision>
  <dc:subject/>
  <dc:title>METABOLISMO DE AMINOACIDOS (Bolilla 9)</dc:title>
</cp:coreProperties>
</file>